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B10-0CDD-44A3-BC4D-EBC43E9B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D7B-7C2C-4876-8ECA-D92C47AA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500-B905-430C-8664-90C94A84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006-31ED-4544-BB84-5263A1F2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BD4-3848-40C4-937C-A3FB4095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1D4-EE31-43AE-AFE7-7CCD0EF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83D-5C3E-474B-B616-BCD57979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05C-D704-4B89-BDB3-630E93FE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370-62DC-418D-948F-26C847B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03E-CC67-43AE-A494-F44A3E7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625-A206-4E55-A719-C33FB3DD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312-DB92-4EEF-B5CD-5B89851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9D99-CE55-4197-9B84-D5C8EE917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y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 is the b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23888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974960" cy="385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934320" y="2057400"/>
            <a:ext cx="1904760" cy="3471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1071720" cy="171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86764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wer point is for people who like art caution there are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486400" cy="3578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is really cool it is awesome I love art  by Tyler.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287440" cy="358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154944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3657600" cy="2395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057400" y="4267080"/>
            <a:ext cx="297180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is so cool and it is fun my favorite kind of art is Abstract. by Ty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971800" cy="294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 is c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640" y="137160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35400" y="1600200"/>
            <a:ext cx="306396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76920" y="4359240"/>
            <a:ext cx="350496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05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art get a paint brush and you'll need paint and get a white piece of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54000" y="1600200"/>
            <a:ext cx="30448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00640" y="1600200"/>
            <a:ext cx="273384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9920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7640" y="19810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ove art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521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3:23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45Z</dcterms:modified>
  <cp:revision>17</cp:revision>
  <dc:subject/>
  <dc:title>Art</dc:title>
</cp:coreProperties>
</file>